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E13E-D19B-45E4-B865-6A8AF77C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A86-1515-4F45-8F5B-4E723E11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326F-D939-45B1-8D72-A3158284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0B0-E53B-44E7-920F-2AAF9151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A3F-6895-4679-87E4-26FE638B7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CAB0-BA55-4FDC-A734-BE616C41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F8BD-DE7F-4996-9D21-35622D2A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D763-CE7E-4F69-9AEC-012A45E3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195-0108-489F-B44E-7AF2AF36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D46-40C6-43D3-B235-510D0B37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C468-FB8E-46E9-BECD-FF725FDD9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83F-99AD-49B7-B030-2E3352E0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345A-D4C6-4F82-BD5A-50E4E4BE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AA04-2D31-4A2B-BF12-852F29597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4325-5C40-4FE4-9A15-FD8C04AA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ADEE-43AF-4570-BDD5-4BBD0CBC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3B1-38F7-4620-98D6-21B6D075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3FD1-5464-42D6-B257-B8C3B9DE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416-8F0D-4C24-AA59-CDC2FC59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3AE5-13A4-4CF9-B87C-B356A593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246D-3723-4C76-BE3A-830781DD2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standing during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9100-D7C5-413B-A725-7C71913E6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3D8-6489-47C7-ACD6-762D4034F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F7B-F7EB-4CE0-ACB0-13055EDC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6D1B-D3EA-4663-8E91-2B2CF9C0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explore how anticipating student difficulties can affect our lesson go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7015-96D0-4973-88E1-0298232D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do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4D42-541F-4F5E-8961-1C0F5A2B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econd question is rarely asked, but i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4286-1578-4350-8C4F-B5C7BD3F9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1FA-DA6E-48F1-B7C5-D2894C06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C1FC-EDC3-45C9-8FB7-B11432CE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not read carefully and say 2.90 and 4.60– so need to attend to decoding problems or checking that you meet al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have difficulty with the actual calculations with these complex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be very inefficient, e.g. start at 7.50, split it one step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kids will get one answer and think that there are no other answers because there is always one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5FD-AD53-4399-9787-D08752B22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D83-D62E-490E-8E36-40CA198C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72D-405E-447A-BF9F-F5EC3BD1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4023-3E33-4237-A463-3DF46025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383-EE09-42CC-AB9B-883F11D1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298-CBB9-4385-A9ED-A8FA9A19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B979-E233-41B2-BD06-E8DBDFA7A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1256-1A6B-42C8-9F9A-202DD7850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FC8-FB0A-48AA-A1FF-F0AB2C7A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45F-17DA-48D4-B3F1-466339AD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375-1535-40BA-ADD4-6CA1B6D2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9843-CEAA-4351-923E-C7ED8C68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F38-3F0C-4325-81C3-2BE852FB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723F-7694-49A7-A98F-3C768341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C45-2661-430F-B810-C80DFFDF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457-4C28-4171-8996-C7C5C039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E85-B325-4A2D-B3DC-37CD1937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7A79-3CB5-48A8-BA74-E378299B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E4F-8746-4AB0-83C7-8E5CB72E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4CE-F9B8-46DA-A17D-29CAA975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684A-5F08-4EC0-A52C-01E4ADCF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9A6C-3017-4422-BC64-AA2C1880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A97-6F3E-47E4-8A42-0A3027B9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E4E-2301-4946-A18F-39F2EE8F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85A6-DDB0-43B6-BF21-C9CBADB9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9F6E-0ACB-4831-BD0D-B06D822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E3F-1E01-4189-A9E9-9115053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17A-BA70-4E08-AF7A-40BB02C1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657-A8DF-4A74-B789-4DAB97F2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71A1-17AF-46CB-B7F1-F5DA2421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A2DD-1D6D-4F3A-BC14-D8FF2FA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E966-B8FF-4027-97DE-A17AA402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E0C2-BA2F-44CF-A123-A964FF50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41FF-92D5-4F01-90CE-109DE67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0F27-DE37-4F24-9D47-2726B6F6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D9C-2662-478B-9710-FB0C45F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383-5E4A-4855-BFF9-9037A94F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74F6-7969-4259-AA9C-26203FC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9CD5-1FB5-4824-A415-423EE5C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454-2390-4A48-8CF8-7371CC7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14F-16E8-4C54-8207-55AB32BB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D830-0356-4668-8010-7F70D80C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FDD-A683-4461-A3C1-412BE425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BD7-50AD-427D-BF0C-81683D6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94B-7BF2-4233-93D6-E9EB048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479-FE2E-4017-9FB7-5BA41DD0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2CB-65A9-4155-868C-6CA479A1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E90-A8E6-4353-B311-9FAA35A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3F9-3B74-454E-B72D-3691965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42D9-494E-489D-BDBC-52E9FFEE77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7C5E-6C81-4E52-9594-F8A087B38EC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21337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5C9-8127-45F9-8DC5-737E460B7D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2209680"/>
            <a:ext cx="74167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7659-C293-4402-9509-F6D93BAC25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228600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53B2-D576-4594-A372-3F121E22CA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11744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65F-4F24-425C-840A-C2FECC6023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AA13-2500-478E-A0FA-216D8A23E5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F7EB-7BCE-4104-8239-FA2A59AF2B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DF7C-1FD9-48BD-9498-78AE74F423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517B-2FAC-42A9-9483-A9222B2BB3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176-D1F9-4137-8CEB-045C4E57C2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4ADB-CBF4-4D8B-94B1-6E23DEDB5B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0D3-E5FF-47F4-A2FB-5AC32A81D67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6CA3-F881-44AB-B79A-079EF62E34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503B-69A7-40F8-BF73-F0D7267D61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is about recognizing when it’s useful to use a generalization when describ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C6A-76F9-4AB2-94C4-5AA450670B2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19051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87CC-9C64-470D-A358-495D7287FEA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CAC0-3744-4213-BB18-91988C6DE0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066680" y="99072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C92D-E797-4465-9BAB-94B69D6E13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066680" y="9907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265-938C-40C4-A46C-4D20122D83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25146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 To do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A9E-BD25-447A-BB50-B8C830955F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43000" y="228600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E89D-BE98-4FE5-B8F1-CDCB11BF102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1EE-6940-43BC-87BE-9652B61447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182880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566-C25E-4E04-B15E-E83622F623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7CFD-8391-4578-B56A-9C61860395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89A-4FFB-469B-8ABA-43D9DBE7E3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loud Callout 9"/>
          <p:cNvSpPr/>
          <p:nvPr/>
        </p:nvSpPr>
        <p:spPr>
          <a:xfrm>
            <a:off x="838080" y="160020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loud Callout 8"/>
          <p:cNvSpPr/>
          <p:nvPr/>
        </p:nvSpPr>
        <p:spPr>
          <a:xfrm>
            <a:off x="57150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6D5-8DC1-47CA-AD63-C31612D6E0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5867280" y="18288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pecific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523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3341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11"/>
          <p:cNvCxnSpPr/>
          <p:nvPr/>
        </p:nvCxnSpPr>
        <p:spPr>
          <a:xfrm>
            <a:off x="3885120" y="2971800"/>
            <a:ext cx="68652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0" name="Straight Arrow Connector 15"/>
          <p:cNvCxnSpPr/>
          <p:nvPr/>
        </p:nvCxnSpPr>
        <p:spPr>
          <a:xfrm>
            <a:off x="4876920" y="4419720"/>
            <a:ext cx="457920" cy="7848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1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36232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A75A-3B10-4276-A06D-6AFF94C03A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5006-2C9B-4905-9313-1D6E42350E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66680" y="236232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DD63-28D6-4FBF-B2D1-63115A0E80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143000" y="16765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nticipating problems– impact on lesso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27D6-6E35-4D48-8E1D-7531EA59E9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82880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your students to solve this probl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F56-1EDD-4224-ABA6-81E77D88FF3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uppos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2717-2632-43A2-A597-DE1D4075F86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C160-2D98-48BB-AFFE-035ACC4C71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solv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both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1828800"/>
            <a:ext cx="7417080" cy="67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on and Alexis counted their money. Between them, they had $7.50, but Brandon had $2.90 more than Ale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) How much did each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) How do you know there are no other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0A4-B05F-431E-A93F-86630D06CB2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tal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1828800"/>
            <a:ext cx="7417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make a list of a “top 5” anticipated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5809-7ED3-4533-9915-0F123DB2226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066680" y="1828800"/>
            <a:ext cx="741708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at your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ould knowing these potential problems affect your instructional goal for one or two subsequent les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9D3E-1F33-4881-B458-AEFEC9E15E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n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goals you decided up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question might you ask at the end of the problem discussion to get at that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B54-D5D3-4CA4-8E09-B4FF48B58EB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8288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your thoughts with another pai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re you surprised, or not, at the different directions the other pair t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09EE-FA36-43C5-AF4F-04CF95805E1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18288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a partner, share a problem your students have struggled with in the past and explain the strugg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6D15-4FC6-4EAD-9C35-F14DBD45C3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Prac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182880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r partner can help you think about an appropriate lesson goal to get at this iss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gether you can frame a question to get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BA5E-4BD4-4FB0-A34F-CF1A910F07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lleague suggests s/he just doesn’t have the time to anticipate student problems; s/he’ll just deal with them as they ar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165-9300-4F0D-BCB1-93FA5D6F83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990720" y="25909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play with a partner. Play critical friend and convince the person otherw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verse ro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4B65-123F-4B2E-A347-CFF20B3E62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fferentia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focus in our next few sessions on ways to differentiate instruction (not just differentiate practic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BB8-73B4-467B-B776-3E0F21A622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A50-E789-4575-BDF8-8C18E4DCE7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we 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ntional approaches of offering additional tools or scaffolding by presenting problems in bits, etc. is only one way to differentia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F19A-9A4F-4AF6-B4E3-C216665B4A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652-B587-4FC2-B9C2-DAACF865F08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coul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nk about what difficulties students have and actually teach different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2F7-6BA3-4839-ADBB-1960C5F0BC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ocus on big ideas (to have something big enough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068-E4B6-4906-8B03-27A8906AB05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or assessment (to know the need to and direction to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986-E500-4651-9DA3-137EF004B8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DI re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990720" y="2590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ice (to actually differentia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C28D-2119-4A4E-983D-AF5FAB203D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ur focu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90720" y="2590920"/>
            <a:ext cx="7416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 focus will be on two strateg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B3F7-3726-4462-A712-B357E9058D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open question about creating a pattern with a particular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516-AC72-497F-89EC-57C7786B1F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ou’ve met 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59092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member Day 1’s task where you matched questions to big ideas but different groups used differen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E24A-0C75-4979-8D1B-E32F223F51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ticipat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990720" y="2590920"/>
            <a:ext cx="74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knowing the “problem” some grade 7-9 teachers might have with grade 11 or 12 content, we differentiated the task appropriately (I hop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82D-EA8A-4CE2-9FE0-122AF76CE9A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07D6-BFA3-4F3A-9165-D0B705FB5D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 the parallel task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990720" y="2590920"/>
            <a:ext cx="74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ere looking at the same instructional goal, with the “problem”  (obstacle) remov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8FCE-215A-4C40-8955-81CBE176A6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to com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990720" y="25909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be doing lots more of this in the next couple of d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B824-5724-40C5-8944-828E4E8FBA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19320" y="214956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DC5-0672-4C17-85FC-CA977F5D81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93760" y="2606760"/>
            <a:ext cx="7416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A964-1A98-449F-BDE1-9798EA91E94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DF7-490A-4ABB-8EF3-192E3C50C7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24:36Z</dcterms:created>
  <dc:creator>PSteele</dc:creator>
  <dc:description/>
  <dc:language>en-US</dc:language>
  <cp:lastModifiedBy>Marian Small</cp:lastModifiedBy>
  <dcterms:modified xsi:type="dcterms:W3CDTF">2009-07-31T18:20:49Z</dcterms:modified>
  <cp:revision>220</cp:revision>
  <dc:subject/>
  <dc:title>Slide 1</dc:title>
</cp:coreProperties>
</file>